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6.xml" ContentType="application/vnd.openxmlformats-officedocument.presentationml.notesSlide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E8D4F-7FE8-4759-8359-50BBB3B35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7D6BB-D2B3-4A47-9B0A-876A35BF1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E9E92-5B45-4800-A3E6-8B21D9011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FEF85-A0E5-45B5-8C09-4BC56493A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58FFD-8ADF-45FA-88BF-63C57DEB6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B2AD5-28F0-4D78-A464-250F8FB0A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E99D0-E83D-4891-A235-833B3AE59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31B69-C4CD-4B91-BD5D-D55BF1C33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29875-E96A-4211-B13A-00C6772C2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B7F15-3321-4226-B2DE-5499CF2F2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C0C40-BB2B-43EA-867B-26002C3B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36E6D-B21C-4019-800B-023E6FE0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4D334-4DF0-4644-9845-416DAD29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818B1-9CE3-4625-A2A1-4BA48EF3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B70F5-1E7E-462B-9750-4D4249C2C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4C82F-D9A3-4FEE-90E3-E2288EA56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6701D-9230-4390-84C4-4AF1CF2CF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C3AF3C-9D36-4833-8CEB-20BABC472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B60977-46A6-4CA6-BA04-287651402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91CF3F-9664-4BDE-9170-ED348E01E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DFB0EF-965B-4B7C-971A-D909AC708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F32D84-8EC3-4FF8-BE83-9541D45AF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698D91-FF66-4C17-B6B5-B0286F23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7B7989-C4A0-4C88-95E8-C93C215D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300802-012A-4C51-813E-D965E7DA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FD6497-845F-4C45-9987-9617D06F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EFB911-E9B1-4BAF-89EB-F5120A9EC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54E630-45B0-4166-BE57-B749C9757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4E0272-22DC-482C-A228-A5801D45D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399229-3DE4-4CCA-ACE2-D8EB78632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63E13A-F958-47D3-B581-7A2762926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F50497-B508-4136-96B3-81B670745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12D52E-4FDB-49E2-AA68-E751A86A8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F456D8-BA00-40F7-BB2B-28E0317A7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702708-9911-4C39-BD57-2CDE06CD6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18DDF5-EE0E-4E06-8CB4-178B47EB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722303-BF09-4AE8-A61D-1DC7F043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3B7FD5-002C-4C77-B220-3CAE7A13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96687F-FD8A-4BE2-A513-C1885F1C4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3A9E58-F4D5-41C7-B56B-0E663CDCE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A48372-2205-45E0-BD8F-27F45B546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A104A-2705-4ECF-BCE3-FD343CEF214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D4110-0E41-4F7E-9E79-9D443A50240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2B943-D8A9-40C7-B099-A991450B155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81396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гисане академске студије фарм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0560" y="2636640"/>
            <a:ext cx="85690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ОД У ФАРМАЦЕУТС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4878000" y="5516640"/>
            <a:ext cx="38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р Ана Барјактарев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611280" y="177336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СКА ТЕХНОЛОГИЈ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е ексципијена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84358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за допуњавање (за постизање одређене масе таблет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за везивање (за постизање одређене чврстин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адхезивна средства (за редукцију адхезиј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бриканти (за превенцију лепљења таблета за матрицу машин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за клизање (за побољшање проточности мас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за облаг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зинтегратори (средства за распадањ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зерванси (микробиолошка стабилнос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лађив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ификација фармацеутских дозираних обл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250920" y="1989000"/>
            <a:ext cx="1800000" cy="12956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сови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естетички гасов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2268360" y="2708280"/>
            <a:ext cx="2087640" cy="14907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спенз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улз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4716360" y="3716280"/>
            <a:ext cx="1943280" cy="1728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вр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мо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ло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7020000" y="4508640"/>
            <a:ext cx="1944720" cy="1944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вр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ну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е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су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озитор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8"/>
          <p:cNvSpPr/>
          <p:nvPr/>
        </p:nvSpPr>
        <p:spPr>
          <a:xfrm>
            <a:off x="3059280" y="1844640"/>
            <a:ext cx="60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 физичким особинама (конзистенцији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а фармацеутских облика према месту примене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95280" y="1916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ци за оралну приме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ци за парентералну приме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ци за офталмолошку приме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ци за примену у ух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ци за примену у н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ци за примену на кож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ци за ректалну приме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ци за вагиналну приме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ци за оралну слузниц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а према степену дисперзитета лековите супстан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50560" y="2287080"/>
            <a:ext cx="84358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ски дисперзни системи (&lt; 1n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оидни дисперзни системи (1 nm – 1 µ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би дисперзни системи (˃ 1 µ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а према брзини ослобађања лековите супстан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венционални лековити обли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ци са модификованим ослобађањ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о лековима и медицинским средствима (Сл. Гласник Р. Србије бр. 30/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23640" y="1844280"/>
            <a:ext cx="856908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 је производ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 се ставља у промет у одређеној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јачин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фармацеутском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лику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ковању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 који садржи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упстанцу или комбинацију супстанци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коју се показало да има својство да лечи или спречава болести код људи,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сно животиња, као и супстанцу или комбинацију супстанци која се може користити или примењивати на људима,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сно животињама, било са намером да се поново успостави, побољша или измени физиолошка функција путем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лошког, имунолошког или метаболичког дејства или да се постави медицинска дијагноз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анц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 става 1. овог члана је свака материја која може бит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) 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хуманог порекла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рв и производи из крви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животињског порекла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икроорганизми, целе животиње, делови органа, животињски секрети, токсини, екстракти,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и из крви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биљног порекла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икроорганизми, целе биљке, делови биљака, биљни секрети, екстракти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хемијског порекла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хемијски елементи, хемијске супстанце које се у природи налазе у датом облику, као и хемијски производи добијени хемијском променом или синтезом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 и компоненте крви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ењене трансфузији не сматрају се леком у смислу овог зако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5416560" y="3952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7575480" y="136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8367840" y="1216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7864560" y="1720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4"/>
          <p:cNvSpPr/>
          <p:nvPr/>
        </p:nvSpPr>
        <p:spPr>
          <a:xfrm>
            <a:off x="7359480" y="19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рсте лекова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ШКИ л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УНОЛОШКИ л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  за НАПРЕДНУ ТЕРАПИ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ови из КРВИ и КРВНЕ ПЛАЗ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ОФАРМАЦЕУТИЦ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ЉНИ л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ОНАЛНИ лек и ТРАДИЦИОНАЛНИ БИЉНИ л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МЕОПАТСКИ л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ТЕРИНАРСКИ л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ИСТРАЛНИ И ГАЛЕНСКИ л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о лековима и медицинским средствима (Сл. Гласник Р Србије бр. 30/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952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гистрални лек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лек израђен у апотеци по рецепту (формули) за одређеног пацијента, односно корис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аленски лек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лек израђен на основу важеће литературе (фармакопеја или магистралне формуле) у галенској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раторији и намењен је за пацијенте апотеке или друге здравствене установе, када не постоји или није доступан л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о лековима и медицинским средствима (Сл. Гласник Р Србије бр. 30/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24000" y="2363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ПЕЈ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збирка прописаних норми и стандарда за супстанце и израду лекова којима се одређује њихова идентификација, карактеристике, квалитет, начин припремања и анали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harmacon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oeo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о лековима и медицинским средствима (Сл. Гласник Р Србије бр. 30/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240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rmacopoea Jugoslavica Editio Pr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h. Jug. I) - 1933. g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rmacopoea Jugoslavica Editio Secu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h. Jug. II) - 1953. g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rmacopoea Jugoslavica Editio Tert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h. Jug. III) - 1972. g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rmacopoea Jugoslavica Editio Qua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h. Jug. IV) - 1984. g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3" descr="D:\Far.tehnologija 1\2020 21\179px-Sa_farmakopeja_1.jpg"/>
          <p:cNvPicPr/>
          <p:nvPr/>
        </p:nvPicPr>
        <p:blipFill>
          <a:blip r:embed="rId1"/>
          <a:stretch/>
        </p:blipFill>
        <p:spPr>
          <a:xfrm>
            <a:off x="7439040" y="0"/>
            <a:ext cx="1704960" cy="24955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 txBox="1"/>
          <p:nvPr/>
        </p:nvSpPr>
        <p:spPr>
          <a:xfrm>
            <a:off x="324000" y="980640"/>
            <a:ext cx="8208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rmacopoea Jugoslavica 2000 (Editio Quinta) (Ph. Jug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) - 2000.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њиг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-3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UROPEAN PHARMACOPOEIA</a:t>
            </a:r>
            <a:r>
              <a:rPr b="1" lang="sr-R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7.0 – 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</a:t>
            </a:r>
            <a:r>
              <a:rPr b="1" lang="sr-R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ропска фармак</a:t>
            </a:r>
            <a:r>
              <a:rPr b="1" lang="sr-RS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опеја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7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.0</a:t>
            </a:r>
            <a:r>
              <a:rPr b="1" lang="sr-Latn-CS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дмо издање, на снази од 2011. год.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UROPEAN PHARMACOPOEIA</a:t>
            </a:r>
            <a:r>
              <a:rPr b="1" lang="sr-R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Latn-R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8</a:t>
            </a:r>
            <a:r>
              <a:rPr b="1" lang="sr-R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0 – 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</a:t>
            </a:r>
            <a:r>
              <a:rPr b="1" lang="sr-R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ропска фармакопеја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Latn-R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8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0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мо издање, на снази од 201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год.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UROPEAN PHARMACOPOEIA</a:t>
            </a:r>
            <a:r>
              <a:rPr b="1" lang="sr-R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Latn-R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9</a:t>
            </a:r>
            <a:r>
              <a:rPr b="1" lang="sr-R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0 – 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</a:t>
            </a:r>
            <a:r>
              <a:rPr b="1" lang="sr-R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ропска фармакопеја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Latn-R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9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0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вето издање, на снази од 2017. год.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UROPEAN PHARMACOPOEIA</a:t>
            </a:r>
            <a:r>
              <a:rPr b="1" lang="sr-R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10.0 - 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</a:t>
            </a:r>
            <a:r>
              <a:rPr b="1" lang="sr-R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ропска фармакопеја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0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0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ето издање, на снази од 2021. год.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i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опска фармакопеја 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вља заједничке и обавезујуће стандарде којима гарантује квалитет лекова у свим државама чланицама. Сви састојци који улазе у састав лекова за људе и животиње стандардизовани су, као и методе анализе, ради осигурања квалитета оптималног за здравље пацијента. Та се стандардизација одвија у складу са Европском конвенцијом коју је ратификовало 36 земаља чланице Конвенције и Европска унија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Како до оцене у индекс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79280" y="1557360"/>
          <a:ext cx="8856720" cy="5100480"/>
        </p:xfrm>
        <a:graphic>
          <a:graphicData uri="http://schemas.openxmlformats.org/drawingml/2006/table">
            <a:tbl>
              <a:tblPr/>
              <a:tblGrid>
                <a:gridCol w="504720"/>
                <a:gridCol w="2876760"/>
                <a:gridCol w="1294200"/>
                <a:gridCol w="172800"/>
                <a:gridCol w="1563840"/>
                <a:gridCol w="1438560"/>
                <a:gridCol w="1005840"/>
              </a:tblGrid>
              <a:tr h="274680">
                <a:tc gridSpan="2"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ДУ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НО ПО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7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ост у току настав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ктични испи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ршн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и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од у фармацеутску технологију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шкови; Раствори; Екстрактивн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парати; Амбалажа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 Суспензије; Емулзиј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98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е стерилизације; Изотонизација;  Офталмолошки препарати;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олучврсти  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парати;  Реологија; Чврсти лековити облиц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2600"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68000" y="1125000"/>
            <a:ext cx="806292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 Jug. 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лумен</a:t>
            </a: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1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прилагођени превод дела Европск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0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uropean pharmacopoeia 3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rd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dition) (Ph.Eur.III)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а књига је општи део који садржи преводе поглављ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ште напомен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лављ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е анализ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лављ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јали за израду амбалаже и контејнер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лавља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генс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лављ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шта поглављ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 и текста Опште монографије лековитих препаратa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лумен</a:t>
            </a: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2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</a:t>
            </a: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лумен</a:t>
            </a: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3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хватају прилагођени превод монографија материје медике из Ph.Eur. треће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дањ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ени број монографија је модификован према додацима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lemen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1998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999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дносу на Европску фармакопеју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пецијални део Југословенске фармакопеје разврстава официналне монографије у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5 целин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графије лековитих и помоћних супстанц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офармацеутиц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о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ојни и хируршки материј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кцине, серуми и деривати кр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539280" y="404640"/>
            <a:ext cx="80629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 Jug. 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графиј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 да садрже следеће делов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лативне атомске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ске ма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ни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и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нтифика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 степена чистоћ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дређива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4572000" y="1413000"/>
            <a:ext cx="4572000" cy="26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чав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зоре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чистоћ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ичне физичке особи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ерентне супстанц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ферентни препарати и референтни спект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574560" y="4437000"/>
            <a:ext cx="799308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графије из наведених целина означене су оригиналним бројевима из Ph.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.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лови монографија су написани на српском језику, а поднаслови на латинском језику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сто назива на српском језику, могу да се користе латински називи као и синоними за које овлашћена установа објави да су еквивалент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Line 2"/>
          <p:cNvSpPr/>
          <p:nvPr/>
        </p:nvSpPr>
        <p:spPr>
          <a:xfrm>
            <a:off x="900000" y="3835440"/>
            <a:ext cx="7920000" cy="0"/>
          </a:xfrm>
          <a:prstGeom prst="line">
            <a:avLst/>
          </a:prstGeom>
          <a:ln cap="rnd" w="6336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324000" y="1268280"/>
            <a:ext cx="849600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аци фармакопејама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800"/>
            </a:br>
            <a:r>
              <a:rPr b="1" lang="sr-Latn-C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ULAE MAGISTRALES ET REAGENTIA (F. M. I, II i III)    </a:t>
            </a:r>
            <a:br>
              <a:rPr sz="2000"/>
            </a:br>
            <a:r>
              <a:rPr b="1" lang="sr-Latn-C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2000"/>
            </a:b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. M. III  (1979. g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ULAE MAGISTRALES 2008</a:t>
            </a:r>
            <a:br>
              <a:rPr sz="2000"/>
            </a:b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250920" y="1125360"/>
            <a:ext cx="8642160" cy="558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еричка фармакопеј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nited States Pharmacopeia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P)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The National Formulary – NF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P 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NF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9 god.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ачка фармакопеј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utsche Arzneibuch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DAB)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utsche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Arzneimittel-Codex - DA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eues Rezeptur-Formularium - NRF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B 2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(2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g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танска фармакопеј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ritish Pharmacopoeia – B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P 2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2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 год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3" descr="usp"/>
          <p:cNvPicPr/>
          <p:nvPr/>
        </p:nvPicPr>
        <p:blipFill>
          <a:blip r:embed="rId1"/>
          <a:stretch/>
        </p:blipFill>
        <p:spPr>
          <a:xfrm>
            <a:off x="4356000" y="1628640"/>
            <a:ext cx="2540160" cy="1486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27" name="Picture 4" descr=""/>
          <p:cNvPicPr/>
          <p:nvPr/>
        </p:nvPicPr>
        <p:blipFill>
          <a:blip r:embed="rId2"/>
          <a:stretch/>
        </p:blipFill>
        <p:spPr>
          <a:xfrm>
            <a:off x="7034040" y="2092320"/>
            <a:ext cx="1678320" cy="2178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"/>
          <p:cNvPicPr/>
          <p:nvPr/>
        </p:nvPicPr>
        <p:blipFill>
          <a:blip r:embed="rId3"/>
          <a:stretch/>
        </p:blipFill>
        <p:spPr>
          <a:xfrm>
            <a:off x="7093080" y="4292640"/>
            <a:ext cx="156024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324000" y="1152360"/>
            <a:ext cx="8424720" cy="59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 супстанце и препарати који су прописани у фармакопејама и магистралним формулама називају се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</a:t>
            </a:r>
            <a:r>
              <a:rPr b="1" lang="sr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ФИЦИНАЛ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P 30 - NF25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квиру поглављ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RMACY COMPOUNDING PRACTICES</a:t>
            </a:r>
            <a:r>
              <a:rPr b="1" i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је захтеве и препоруке за израду фармацеутских препарата у условима апотеке, намењених индивидуалној терапиј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1150920" y="3429000"/>
            <a:ext cx="6840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68360" y="1773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ОТЕКА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 грчког порекл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иште, слагалиш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П О Т Е К  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6" descr="D:\Far.tehnologija 1\2020 21\download.jpg"/>
          <p:cNvPicPr/>
          <p:nvPr/>
        </p:nvPicPr>
        <p:blipFill>
          <a:blip r:embed="rId1"/>
          <a:stretch/>
        </p:blipFill>
        <p:spPr>
          <a:xfrm>
            <a:off x="0" y="4365720"/>
            <a:ext cx="4756320" cy="2205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Apoteka – mesto odakle se razvijala svest društvene zajednice - MediaSfera"/>
          <p:cNvPicPr/>
          <p:nvPr/>
        </p:nvPicPr>
        <p:blipFill>
          <a:blip r:embed="rId2"/>
          <a:stretch/>
        </p:blipFill>
        <p:spPr>
          <a:xfrm>
            <a:off x="5651640" y="2349360"/>
            <a:ext cx="329220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998640" y="260280"/>
            <a:ext cx="714672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587520" y="0"/>
            <a:ext cx="7956360" cy="61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отека је здравствена установа у којој се обавља фармацеутска здравствена делатост на примарном нивоу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еној заштити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жбени гласник Р Србиј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р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7/05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лан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0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апотеци се обавља фармацеутска здравствена делатност која обухва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 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омоцију зд</a:t>
            </a:r>
            <a:r>
              <a:rPr b="1" lang="sr-R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р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ављ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сно здравствено васпитање и саветовање за очување и унапређење з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ља правилном употребом лекова и одређених врста медицинских средстава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омет на мало леков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дређених врста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медицинских средстав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на основу планова за набавку лекова и медицинских средстава зa редовне и ванредне потребе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аћење савремених стручних и научних достигнућа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бласти фармакотерапије и пружање грађанима, здравственим радницима, другим здравственим установама и приватној пракси, као и другим заинтересованим субјектима, информација о лековима и одређеним врстама медицинских средста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Давање савета пацијентима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a правилну употребу лекова и одређених врста медицинских средстава, односно упутстава за њихову правилну употреб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Израду магистралних лек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  Друге послове, у складу са закон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5564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И АПОТЕК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108000" y="1676520"/>
            <a:ext cx="8640720" cy="45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 члану 45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ника о ближим условима за обављање здравствене делатности у здравственим установама и другим облицима здравствене службе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обављање здравствене делатности у апотеци поједине просториј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зависности од намене треба да имају следеће површин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ицин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јалк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ораторија за израду магистралних лекова и за прање посуђ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рдероба са санитарним чвором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24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И АПОТЕКЕ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451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ФИЦИНИ се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дају и израђују лекови према рецептим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дају лекови без рецепт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ши продаја средстава з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у хигијену,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етског материјала  и друге робе коју наба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ља апотека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чна продај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алном делу апотеке се налази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ЦЕПТУР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ни 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ругом делу официне где се израђују лекови у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ЈНИЦАМ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чувају лековите и помоћне супстанце, адекватно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ГНИРА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8" descr="Apoteka Novi Sad Bulevar oslobodjenja | Apoteka Laurus"/>
          <p:cNvPicPr/>
          <p:nvPr/>
        </p:nvPicPr>
        <p:blipFill>
          <a:blip r:embed="rId1"/>
          <a:stretch/>
        </p:blipFill>
        <p:spPr>
          <a:xfrm>
            <a:off x="5651640" y="1557360"/>
            <a:ext cx="2952720" cy="21160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0" descr="Two vials of apothecary &amp;quot;Pharmacie Metedier&amp;quot; 13 cm | Selency"/>
          <p:cNvPicPr/>
          <p:nvPr/>
        </p:nvPicPr>
        <p:blipFill>
          <a:blip r:embed="rId2"/>
          <a:stretch/>
        </p:blipFill>
        <p:spPr>
          <a:xfrm>
            <a:off x="5508720" y="3645000"/>
            <a:ext cx="321300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СКА ТЕХНОЛОГ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4960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ада галенска фармациј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ас фармацеутска технолог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hnos, teh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ешти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ност  и   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os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ска технологиј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а дисциплина која проучава формулацију, израду и карактеристике лековитих препарата у циљу постизања оптималне испоруке и фармакокинетике лековите супстанце, као и прихватљивости лека од стране пације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ска технологиј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учава све факторе везане за лековити препарат, помоћне материје и фармацеутско-технолошке поступке израде, испитивање квалитета и услове чувањ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95280" y="657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И АПОТЕКЕ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јалка је просториј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ојој се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ају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ерв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ЕКТИРАЊЕ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премањ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их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ин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анц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ских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парат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1320840" y="4365720"/>
            <a:ext cx="712800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отек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им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едених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риј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т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тичку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ораторију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целарију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у за дежурство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"/>
          <p:cNvSpPr/>
          <p:nvPr/>
        </p:nvSpPr>
        <p:spPr>
          <a:xfrm>
            <a:off x="1079640" y="4292640"/>
            <a:ext cx="734364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703440" y="1976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је и препоруке које се дају под насловом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ањ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су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аставни део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армакопејског захтев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да овлашћена установа може да специфицира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бне услове чувања који морају да се задовољ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и описани у Фармакопеји се чувају тако да се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пречи</a:t>
            </a: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нтаминациј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ко год је то могућ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арење препарат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 се препоручују посебни услови чувањ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љујучујући и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рсту контејнера и температурне границ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оде се у монографиј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чавањ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пада у домен наднационалног и националног законског прописа и међународног договор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тог разлога одредбе под насловом Означавањ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су свеобухватн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а виш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фармакопејске сврх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битније су и обавезне оне које показују да ли је производ у складу са захтевима монографиј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ле одредбе везане за означавање се дају као препору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268920" y="1052640"/>
            <a:ext cx="860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АЊЕ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ЧАВАЊЕ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ИХ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ИХ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АНЦИ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h. Jug V, Vol.1,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ште напомене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10920" y="1267920"/>
            <a:ext cx="830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АЊЕ И ОЗНАЧАВАЊЕ ЛЕКОВИТИХ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ИХ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АНЦ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h. Jug IV, Vol.1, 2-020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ање и означавање леков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000"/>
            </a:b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24000" y="2421000"/>
            <a:ext cx="8564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3000"/>
          </a:bodyPr>
          <a:p>
            <a:pPr marL="18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ви слабог деловања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= </a:t>
            </a:r>
            <a:r>
              <a:rPr b="1" i="1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ају се у добро затвореним посудам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увом мест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штићено 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ректне светлост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емператури до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5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гнатур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ив ле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е супстанце означен 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рним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има н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о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љ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8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8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8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8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8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8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8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8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8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8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8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8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8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8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3384720" y="4653000"/>
            <a:ext cx="2819160" cy="838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DUM BORIC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457200" y="126828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-2124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Леков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ког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ањ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i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EDIA SEPARA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а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војен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ли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гнатур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к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ст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†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в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рвеним</a:t>
            </a:r>
            <a:r>
              <a:rPr b="0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овима</a:t>
            </a:r>
            <a:r>
              <a:rPr b="0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о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љ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ећ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единач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† </a:t>
            </a:r>
            <a:r>
              <a:rPr b="1" lang="sr-Latn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GENTI NIT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.p.d. 0,03 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               </a:t>
            </a:r>
            <a:r>
              <a:rPr b="1" lang="sr-Latn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.d.d. 0,1 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2916360" y="4365720"/>
            <a:ext cx="3311280" cy="1079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 врло јаког деловањ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EDIA CLAUDENDA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ENA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ВИ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7718400" cy="452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ају се одвојено од осталих лекова и под кључем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гнатур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ка два крста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††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зив ле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е супстанце означен ј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им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има на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рном пољ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ећа појединачна и дневна доз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Rectangle 4" descr=""/>
          <p:cNvPicPr/>
          <p:nvPr/>
        </p:nvPicPr>
        <p:blipFill>
          <a:blip r:embed="rId1"/>
          <a:stretch/>
        </p:blipFill>
        <p:spPr>
          <a:xfrm>
            <a:off x="3078000" y="4432320"/>
            <a:ext cx="2994120" cy="1461960"/>
          </a:xfrm>
          <a:prstGeom prst="rect">
            <a:avLst/>
          </a:prstGeom>
          <a:ln w="0">
            <a:noFill/>
          </a:ln>
        </p:spPr>
      </p:pic>
      <p:sp>
        <p:nvSpPr>
          <p:cNvPr id="258" name="TextBox 1"/>
          <p:cNvSpPr/>
          <p:nvPr/>
        </p:nvSpPr>
        <p:spPr>
          <a:xfrm>
            <a:off x="-396720" y="425304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ОПОЈНЕ ДРОГ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95280" y="1946160"/>
            <a:ext cx="87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ају се према прописима Закона о производњи и промету oпојних дрог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гнатур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граф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зна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леков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е супстанце јаког или врло јаког деловањ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3352680" y="3886200"/>
            <a:ext cx="2971800" cy="1447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 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ENOBARBITO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p.d. 0,3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d.d. 0,6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ДИОАКТИВНИ ПРЕПАРАТИ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h. Jug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гнатур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рвени сегмен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том пољ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ају се према посебним прописи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Group 4"/>
          <p:cNvGrpSpPr/>
          <p:nvPr/>
        </p:nvGrpSpPr>
        <p:grpSpPr>
          <a:xfrm>
            <a:off x="3780000" y="4005360"/>
            <a:ext cx="1444320" cy="1371600"/>
            <a:chOff x="3780000" y="4005360"/>
            <a:chExt cx="1444320" cy="1371600"/>
          </a:xfrm>
        </p:grpSpPr>
        <p:sp>
          <p:nvSpPr>
            <p:cNvPr id="265" name="Rectangle 5"/>
            <p:cNvSpPr/>
            <p:nvPr/>
          </p:nvSpPr>
          <p:spPr>
            <a:xfrm>
              <a:off x="3780000" y="4005360"/>
              <a:ext cx="1444320" cy="1371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6" name="Group 6"/>
            <p:cNvGrpSpPr/>
            <p:nvPr/>
          </p:nvGrpSpPr>
          <p:grpSpPr>
            <a:xfrm>
              <a:off x="3991680" y="4209120"/>
              <a:ext cx="990360" cy="943200"/>
              <a:chOff x="3991680" y="4209120"/>
              <a:chExt cx="990360" cy="943200"/>
            </a:xfrm>
          </p:grpSpPr>
          <p:sp>
            <p:nvSpPr>
              <p:cNvPr id="267" name="AutoShape 7"/>
              <p:cNvSpPr/>
              <p:nvPr/>
            </p:nvSpPr>
            <p:spPr>
              <a:xfrm rot="10800000">
                <a:off x="4321080" y="4209120"/>
                <a:ext cx="320760" cy="51408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AutoShape 8"/>
              <p:cNvSpPr/>
              <p:nvPr/>
            </p:nvSpPr>
            <p:spPr>
              <a:xfrm rot="3447000">
                <a:off x="4115160" y="4637520"/>
                <a:ext cx="342720" cy="48132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AutoShape 9"/>
              <p:cNvSpPr/>
              <p:nvPr/>
            </p:nvSpPr>
            <p:spPr>
              <a:xfrm rot="17988600">
                <a:off x="4516560" y="4626000"/>
                <a:ext cx="342720" cy="48132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ФАРМ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иофармаци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научна дисциплина која изучава односе између физичко-хемијских особина лековите супстанце и њеног лековитог облика, са једне стран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шке расположивости лековите супстанце у организму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 који лек.супст. треба да прође од формулације у лековити облик – до места апсорпциј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факторе од утица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1929600" y="-304920"/>
            <a:ext cx="50421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pt-B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а СУПСТАН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1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598320" y="1176480"/>
          <a:ext cx="4118040" cy="822240"/>
        </p:xfrm>
        <a:graphic>
          <a:graphicData uri="http://schemas.openxmlformats.org/drawingml/2006/table">
            <a:tbl>
              <a:tblPr/>
              <a:tblGrid>
                <a:gridCol w="4118040"/>
              </a:tblGrid>
              <a:tr h="8222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99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12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ИЗБОР ЛЕКОВИТОГ ОБЛ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99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2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12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ИЗБОР ПОМОЋНИХ МАТЕРИЈ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99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12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ИЗБОР</a:t>
                      </a:r>
                      <a:r>
                        <a:rPr b="1" lang="en-US" sz="12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12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ФАРМАЦЕУТСКО</a:t>
                      </a:r>
                      <a:r>
                        <a:rPr b="1" lang="en-US" sz="12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-T</a:t>
                      </a:r>
                      <a:r>
                        <a:rPr b="1" lang="sr-RS" sz="12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ЕХНОЛОШКОГ ПОСТУПКА ИЗРАД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sp>
        <p:nvSpPr>
          <p:cNvPr id="274" name="Rectangle 9"/>
          <p:cNvSpPr/>
          <p:nvPr/>
        </p:nvSpPr>
        <p:spPr>
          <a:xfrm>
            <a:off x="198000" y="1772280"/>
            <a:ext cx="3931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 Е К О В И Т И  О Б Л И 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611280" y="2494080"/>
          <a:ext cx="4118040" cy="276120"/>
        </p:xfrm>
        <a:graphic>
          <a:graphicData uri="http://schemas.openxmlformats.org/drawingml/2006/table">
            <a:tbl>
              <a:tblPr/>
              <a:tblGrid>
                <a:gridCol w="4118040"/>
              </a:tblGrid>
              <a:tr h="2761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</a:t>
                      </a:r>
                      <a:r>
                        <a:rPr b="1" i="1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РА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76" name="Rectangle 16"/>
          <p:cNvSpPr/>
          <p:nvPr/>
        </p:nvSpPr>
        <p:spPr>
          <a:xfrm>
            <a:off x="30240" y="2780280"/>
            <a:ext cx="4295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И ПРЕПАРАТ НА МЕСТУ ПРИМЕ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755640" y="3284640"/>
          <a:ext cx="4118040" cy="639720"/>
        </p:xfrm>
        <a:graphic>
          <a:graphicData uri="http://schemas.openxmlformats.org/drawingml/2006/table">
            <a:tbl>
              <a:tblPr/>
              <a:tblGrid>
                <a:gridCol w="4118040"/>
              </a:tblGrid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99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200" spc="-1" strike="noStrike">
                          <a:solidFill>
                            <a:srgbClr val="ffc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1200" spc="-1" strike="noStrike">
                          <a:solidFill>
                            <a:srgbClr val="ffc000"/>
                          </a:solidFill>
                          <a:latin typeface="Times New Roman"/>
                          <a:ea typeface="Times New Roman"/>
                        </a:rPr>
                        <a:t>РАСПАДАЊ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99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c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1200" spc="-1" strike="noStrike">
                          <a:solidFill>
                            <a:srgbClr val="ffc000"/>
                          </a:solidFill>
                          <a:latin typeface="Times New Roman"/>
                          <a:ea typeface="Times New Roman"/>
                        </a:rPr>
                        <a:t>РАСТВАРАЊЕ</a:t>
                      </a:r>
                      <a:r>
                        <a:rPr b="1" lang="en-US" sz="1200" spc="-1" strike="noStrike">
                          <a:solidFill>
                            <a:srgbClr val="ffc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</a:t>
                      </a:r>
                      <a:r>
                        <a:rPr b="1" lang="sr-RS" sz="1200" spc="-1" strike="noStrike">
                          <a:solidFill>
                            <a:srgbClr val="ffc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99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c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1200" spc="-1" strike="noStrike">
                          <a:solidFill>
                            <a:srgbClr val="ffc000"/>
                          </a:solidFill>
                          <a:latin typeface="Times New Roman"/>
                          <a:ea typeface="Times New Roman"/>
                        </a:rPr>
                        <a:t>РАСПРОСТИРАЊ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000076"/>
                        </a:gs>
                        <a:gs pos="100000">
                          <a:srgbClr val="0000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278" name="Rectangle 23"/>
          <p:cNvSpPr/>
          <p:nvPr/>
        </p:nvSpPr>
        <p:spPr>
          <a:xfrm>
            <a:off x="5040" y="3933000"/>
            <a:ext cx="4565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А СУПСТАНЦА НА МЕСТУ АПСОРПЦИЈ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684360" y="4724280"/>
          <a:ext cx="4117680" cy="822600"/>
        </p:xfrm>
        <a:graphic>
          <a:graphicData uri="http://schemas.openxmlformats.org/drawingml/2006/table">
            <a:tbl>
              <a:tblPr/>
              <a:tblGrid>
                <a:gridCol w="4117680"/>
              </a:tblGrid>
              <a:tr h="8226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99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АПСОРПЦИЈА</a:t>
                      </a: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</a:t>
                      </a:r>
                      <a:r>
                        <a:rPr b="1" i="1" lang="sr-R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99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ТРИБУЦИЈА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</a:t>
                      </a:r>
                      <a:r>
                        <a:rPr b="1" i="1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99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АБОЛИЗАМ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</a:t>
                      </a:r>
                      <a:r>
                        <a:rPr b="1" i="1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99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ИМИНАЦИЈА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80" name="Rectangle 30"/>
          <p:cNvSpPr/>
          <p:nvPr/>
        </p:nvSpPr>
        <p:spPr>
          <a:xfrm>
            <a:off x="9720" y="5515560"/>
            <a:ext cx="4343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</a:t>
            </a:r>
            <a:r>
              <a:rPr b="1" i="1" lang="sr-Latn-CS" sz="1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А СУПСТАНЦА НА МЕСТУ ДЕЛОВАЊ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684360" y="6165720"/>
          <a:ext cx="4117680" cy="274680"/>
        </p:xfrm>
        <a:graphic>
          <a:graphicData uri="http://schemas.openxmlformats.org/drawingml/2006/table">
            <a:tbl>
              <a:tblPr/>
              <a:tblGrid>
                <a:gridCol w="4117680"/>
              </a:tblGrid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99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ИЈСКО ДЕЛОВАЊ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82" name="AutoShape 37"/>
          <p:cNvSpPr/>
          <p:nvPr/>
        </p:nvSpPr>
        <p:spPr>
          <a:xfrm>
            <a:off x="4753080" y="1133640"/>
            <a:ext cx="3959280" cy="968040"/>
          </a:xfrm>
          <a:prstGeom prst="leftArrowCallout">
            <a:avLst>
              <a:gd name="adj1" fmla="val 25002"/>
              <a:gd name="adj2" fmla="val 25000"/>
              <a:gd name="adj3" fmla="val 68167"/>
              <a:gd name="adj4" fmla="val 6667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ФАРМАЦЕУТСКА</a:t>
            </a:r>
            <a:r>
              <a:rPr b="1" lang="sr-Latn-C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ТЕХНОЛОГ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38"/>
          <p:cNvSpPr/>
          <p:nvPr/>
        </p:nvSpPr>
        <p:spPr>
          <a:xfrm>
            <a:off x="4932360" y="3284640"/>
            <a:ext cx="3384720" cy="609480"/>
          </a:xfrm>
          <a:prstGeom prst="leftArrowCallout">
            <a:avLst>
              <a:gd name="adj1" fmla="val 25002"/>
              <a:gd name="adj2" fmla="val 25000"/>
              <a:gd name="adj3" fmla="val 92558"/>
              <a:gd name="adj4" fmla="val 6667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БИОФАРМА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39"/>
          <p:cNvSpPr/>
          <p:nvPr/>
        </p:nvSpPr>
        <p:spPr>
          <a:xfrm>
            <a:off x="4859280" y="6021360"/>
            <a:ext cx="3890880" cy="609480"/>
          </a:xfrm>
          <a:prstGeom prst="leftArrowCallout">
            <a:avLst>
              <a:gd name="adj1" fmla="val 25002"/>
              <a:gd name="adj2" fmla="val 25000"/>
              <a:gd name="adj3" fmla="val 106399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ЛОГ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40"/>
          <p:cNvSpPr/>
          <p:nvPr/>
        </p:nvSpPr>
        <p:spPr>
          <a:xfrm>
            <a:off x="4859280" y="4797360"/>
            <a:ext cx="3889440" cy="609840"/>
          </a:xfrm>
          <a:prstGeom prst="leftArrowCallout">
            <a:avLst>
              <a:gd name="adj1" fmla="val 25002"/>
              <a:gd name="adj2" fmla="val 25000"/>
              <a:gd name="adj3" fmla="val 106297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КИНЕ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41"/>
          <p:cNvSpPr/>
          <p:nvPr/>
        </p:nvSpPr>
        <p:spPr>
          <a:xfrm>
            <a:off x="4753080" y="2168640"/>
            <a:ext cx="4103640" cy="863640"/>
          </a:xfrm>
          <a:prstGeom prst="leftArrowCallout">
            <a:avLst>
              <a:gd name="adj1" fmla="val 25002"/>
              <a:gd name="adj2" fmla="val 25000"/>
              <a:gd name="adj3" fmla="val 79193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УСТРИЈС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7"/>
          <p:cNvSpPr/>
          <p:nvPr/>
        </p:nvSpPr>
        <p:spPr>
          <a:xfrm>
            <a:off x="6783480" y="41400"/>
            <a:ext cx="2455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ЛАДМЕР систем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д лековите супстанц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 фармаколошког деловањ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126828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селска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венција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929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- усвојен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г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нственој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менклатури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сималним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ама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им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о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им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шким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ивањима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једначености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иса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ду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а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ју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ко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ање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иси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ду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врду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нтитета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ина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итета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ирања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ања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а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акоњени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пејама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единих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аља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и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и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х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и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ор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погоднијег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ог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ка су: начин апликације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ања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чност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ирања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ност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лошки активне супстанце (ФАС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и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к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а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збедити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чност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ирања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љу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изања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ске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е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а и стабилност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корпориране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С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кло лековитих супстан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рошлости су сви лекови водили порекло од биљака и животињ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 природног порекла који су и данас у употреби су: антибиотици (пеницилин, стрептомицин), цитостатици (винкристин, винбластин), атропин, дигоксин, алкалоиди опијума (морфи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пак већина лекова је добијена хемијским и биолошким процес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 произведени рекомбинантном ДНК технологијом: хумани инсулин, хумани хормон раста, вакцина против хепатитиса 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И ПРЕПАРА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4038480" cy="45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мбинација: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ековит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х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упстанц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 ексципијенас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пакован  у одговарајућу амбалаж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авилно означе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изведен доказаним процесим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валитета који одговара унапред утврђеној спецификациј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Diagram 1" descr=""/>
          <p:cNvPicPr/>
          <p:nvPr/>
        </p:nvPicPr>
        <p:blipFill>
          <a:blip r:embed="rId1"/>
          <a:stretch/>
        </p:blipFill>
        <p:spPr>
          <a:xfrm>
            <a:off x="4091040" y="1603440"/>
            <a:ext cx="4718160" cy="4529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1700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лошки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а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анца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еdium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носилац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ског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ањ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а супстанца ступа у интеракцију са делом организма и мења постојећи физиолошки или биохемијски проце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ћне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анце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pientia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лошки индиферентне супстанце које се користе као носачи лековите супстанце, за олакшавање производног процеса и процеса либерације лековите супстанце, утичу на физичке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ине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а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времено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ажу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љем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ању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ношљивости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а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ор ексципијенса зависи од технолошких, биофармацеутских аспеката и стабил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е компоненте лековитог препар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ине лековитог препар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ација одговарајућег лековитог облика (ослобађање лековите супстанце, апсорпциј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бедн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икасн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итет (стабилност, уједначеност садржај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а супстанца, одговарајући фармацеутски облик и амбалажа утичу на квалитет, безбедност и ефикасност л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ога помоћних супстанци у лековитом препара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213372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цизност дозирањ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 ако је доза л.с. мала мора се дисперговати у одговарајућем дилуенсу или средству за допуњавање да би се постигао одређен волумен/маса и тако прецизно извршила подела на доз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говање органолептичких особин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коригенси укуса, мириса, боје који значајно утичу на комплијансу, нарочито код дец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ицај на ослобађање л.с. из лековитог облик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дезинтегратори, средства за квашењ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ачивачи апсорпциј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 код трансдермалне примене инхенсери пенетрације раскидају липидне сегменте на површини коже и повећавају пермеабилнос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изатори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конзерванси, пуфери, антиоксиданс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Dobrila</cp:lastModifiedBy>
  <dcterms:modified xsi:type="dcterms:W3CDTF">2024-08-28T12:59:47Z</dcterms:modified>
  <cp:revision>1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_Confidentiality">
    <vt:lpwstr>Restricted</vt:lpwstr>
  </property>
  <property fmtid="{D5CDD505-2E9C-101B-9397-08002B2CF9AE}" pid="3" name="MSIP_Label_9d258917-277f-42cd-a3cd-14c4e9ee58bc_ActionId">
    <vt:lpwstr>5ea09873-de40-4b40-b98c-2c6ee90205cd</vt:lpwstr>
  </property>
  <property fmtid="{D5CDD505-2E9C-101B-9397-08002B2CF9AE}" pid="4" name="MSIP_Label_9d258917-277f-42cd-a3cd-14c4e9ee58bc_ContentBits">
    <vt:lpwstr>0</vt:lpwstr>
  </property>
  <property fmtid="{D5CDD505-2E9C-101B-9397-08002B2CF9AE}" pid="5" name="MSIP_Label_9d258917-277f-42cd-a3cd-14c4e9ee58bc_Enabled">
    <vt:lpwstr>true</vt:lpwstr>
  </property>
  <property fmtid="{D5CDD505-2E9C-101B-9397-08002B2CF9AE}" pid="6" name="MSIP_Label_9d258917-277f-42cd-a3cd-14c4e9ee58bc_Method">
    <vt:lpwstr>Standard</vt:lpwstr>
  </property>
  <property fmtid="{D5CDD505-2E9C-101B-9397-08002B2CF9AE}" pid="7" name="MSIP_Label_9d258917-277f-42cd-a3cd-14c4e9ee58bc_Name">
    <vt:lpwstr>restricted</vt:lpwstr>
  </property>
  <property fmtid="{D5CDD505-2E9C-101B-9397-08002B2CF9AE}" pid="8" name="MSIP_Label_9d258917-277f-42cd-a3cd-14c4e9ee58bc_SetDate">
    <vt:lpwstr>2022-09-17T13:18:45Z</vt:lpwstr>
  </property>
  <property fmtid="{D5CDD505-2E9C-101B-9397-08002B2CF9AE}" pid="9" name="MSIP_Label_9d258917-277f-42cd-a3cd-14c4e9ee58bc_SiteId">
    <vt:lpwstr>38ae3bcd-9579-4fd4-adda-b42e1495d55a</vt:lpwstr>
  </property>
</Properties>
</file>